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216000" indent="0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CA060C9-D1F5-4064-A58B-A1CDA95C1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47FA3CA-8A61-4B64-91B6-2BAFE28BC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9915ED3-BD9E-4713-B1E8-E3094FF69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384745A-1417-4CFA-AD0F-7BF5D80E4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C6E75AB-4941-4773-8177-FFBB3CE55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17F8D7C-7221-4146-9202-549BDE96E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2F20ED3-5D12-4AF5-866B-688959384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455A404-1E01-4497-871B-D0972CDB0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2683D94-C1A1-4C2D-A954-8B3299C6F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09028B0-8824-4F4E-B65B-BFBBCD4D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9299233-BC89-466D-9891-59A680BB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749FFC1-7297-4D5A-AC42-EEA1093C4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1934907-C796-4EF4-88E4-666070253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DE1B3E0-3ED0-4318-82A2-306AF5517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F18AE2A-DF89-4A11-9227-24751E29F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 new words per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er, G., &amp; Gildea, P.  (1987). How children learn word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cientific American, 25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, 94-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, &amp; Herman, P. A. (1987). Breadth and depth of vocabulary knowledge: Implications for acquisition and instruction. In M. G. McKeown and M. E. Curtis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ature of Vocabulary Acquis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illsdale, NJ: Lawrence Erlbaum, pp. 19-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, Herman, P. A, &amp; Anderson, R. C. (1985). Learning words from context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Research Quarterly, 2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233-25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these words are acquired through reading after the third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 (1988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aching vocabulary to improve reading comprehensio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ark, Delaware: International Reading Assoc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y, W. E., &amp; Herman, P. A. (1987). Breadth and depth of vocabulary knowledge: Implications for acquisition and instruction. In M. G. McKeown and M. E. Curtis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ature of Vocabulary Acquis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illsdale, NJ: Lawrence Erlbaum, pp. 19-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not a substitute for wide exposure to text because of the differences in lexical d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ovich, K.E., West,R. F.,  Cunningham, A. E., Cipielewski, J., and Siddiqui, S. (1996). The role of inadequate print exposure as a determinant of reading comprehension problems. In E. Cornoldi &amp; J. Oakhill (Eds.), Reading comprehension difficulties: Processes and intervention (pp. 15-32).  Mahwah, NJ: Earlba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Text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dner, D. (2004). Vocabulary Input through extensive reading: A comparison of words found in children’s narrative and expository reading material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pplied Linguistics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1-3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B0296F3-9CA3-479D-9A6D-04A29954E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200" rIns="97200" tIns="48600" bIns="48600" anchor="t">
            <a:noAutofit/>
          </a:bodyPr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novich, K.E., West,R. F.,  Cunningham, A. E., Cipielewski, J., and Siddiqui, S. (1996). The role of inadequate print exposure as a determinant of reading comprehension problems. In E. Cornoldi &amp; J. Oakhill (Eds.), Reading comprehension difficulties: Processes and intervention (pp. 15-32).  Mahwah, NJ: Earlba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drick, W. B., &amp; Cunningham, J. W. (2002).  Investigating the effect of wide reading on listening comprehension of written language.  Reading Psychology, 23, 107-12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comprehension to ensue, readers must be able to identify 95 percent of the words in a give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, M., &amp; Nation, I. S. P. (2000). Vocabulary density and reading comprehension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in a Foreign Language,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689-9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fer, B. (1989). What percentage of text-lexis is essential for comprehension? In C. Lauren and M. Nordman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ecial Language: From Humans Thinking to Thinking Machin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adelphia: Multilingual Matters, pp. 316-2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fer, B. (1997). The lexical plight in second language reading: Words you don’t know, words you think you know, and words you can’t guess.  In J. Coady and T. Huckin (eds.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cond Language Vocabulary Acquisitio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ridge University Press, pp. 20-3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u, N., &amp; Nation, I. S. P. (1985). Factors affecting guessing vocabulary in context. RELC Journal, 16(1), 33-4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xson, K. K., &amp; Lipson, M. Y. (1991)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Disabi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New York: Harper Coll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60C17CD-12BC-4DE0-84DD-4AB9376A3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2025443-59D2-4038-86F9-B612BFDEE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83760A6-1DDE-40B2-9093-D90BDB2B6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F715871-2584-4AC9-8659-239A26747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D23446C-E12F-45CE-807A-9250F1CF2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C503F62-5082-4647-80F2-691D36DBC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F130AEF-0943-4BEE-ADE4-CB19CBEB9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A7E9060-38A1-4831-9AB1-2F07EE097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21A168C-DA88-4880-A76A-B37994FAD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75A5387-5981-4FC7-86BA-F6CA634D5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FA3-5026-4FCE-AB30-DB20D6B8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CD4-EA7E-4012-80BE-63CE48C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375-1FB9-430D-B248-5C7AF1FC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4FB-E994-4C75-9547-C3D9F1CD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12E-5FE5-4F0C-9D5D-42E18D3E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9BE-6DFD-45FB-BCE7-2C83612D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2BA1-8239-418A-8FBA-1CCD066E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75DC-07D9-478B-9647-8FE05FB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934-53C4-4982-B3A3-0CEC618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031-8B66-4C08-B5BB-7A1F50EC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AF60-62A5-4DD9-B1EA-1086737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B73-BCA4-4465-9DC6-A6FE3C8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0281-2CEA-40E2-B05B-38900BD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4E14-0845-49B6-9A2C-74AADE3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6530-1462-49F7-AE68-B2EEC54F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5533-580B-43F7-8B5A-4377568B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F52-EDEE-4250-96B9-AD7E1D75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41C-2189-42F8-93B3-C6CB793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8FE-CC7E-411E-B4E5-CDABEFC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331-2D36-4AD1-A11F-3D68976C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1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78A-E1BF-415C-ABD8-1845532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6BB-E13F-49CC-B822-95F2AEE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BE1-8755-43D9-8CAC-E7E09CA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ACD-2938-42DA-AE66-63CDFB1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ookslaptop_300dpi copy s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6956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227160">
              <a:spcBef>
                <a:spcPts val="700"/>
              </a:spcBef>
              <a:buClr>
                <a:srgbClr val="000000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83CE-596B-476F-82F1-7B3D4285E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ookslaptop_300dpi copy titl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bookshare_300dpi"/>
          <p:cNvPicPr/>
          <p:nvPr/>
        </p:nvPicPr>
        <p:blipFill>
          <a:blip r:embed="rId3"/>
          <a:stretch/>
        </p:blipFill>
        <p:spPr>
          <a:xfrm>
            <a:off x="457200" y="1447920"/>
            <a:ext cx="1295280" cy="52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6956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287280">
              <a:spcBef>
                <a:spcPts val="700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227160">
              <a:spcBef>
                <a:spcPts val="700"/>
              </a:spcBef>
              <a:buClr>
                <a:srgbClr val="000000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24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E3C0-2DD0-4AFF-B9D7-792BAACC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ED9-A378-4CD6-A090-12488EA3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hare for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Texts Revolutionize Learning for Students with Print Disabilities, Kindergarten through Graduate School and Bey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1E3-32A4-4BF1-982C-FC2274293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MAC/NIM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gencies ask Bookshare to convert K-12 textbooks from the NIMAC into student-ready form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week average processing time for NIMAC- sourced book requests b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ncourage state and local education agencies to partner with Bookshare.org in an effort to build the world’s largest digital library of accessibl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057400" y="3352680"/>
            <a:ext cx="3048120" cy="1524240"/>
          </a:xfrm>
          <a:prstGeom prst="roundRect">
            <a:avLst>
              <a:gd name="adj" fmla="val 16667"/>
            </a:avLst>
          </a:prstGeom>
          <a:solidFill>
            <a:srgbClr val="f37e2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133720" y="3505320"/>
            <a:ext cx="2819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achers who are interested in accessing textbooks that are not in the NIMAC are advised to contact their state’s NIMAC coordinator first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5257800" y="3200400"/>
            <a:ext cx="1828800" cy="990720"/>
          </a:xfrm>
          <a:prstGeom prst="wedgeRoundRectCallout">
            <a:avLst>
              <a:gd name="adj1" fmla="val -71356"/>
              <a:gd name="adj2" fmla="val 31412"/>
              <a:gd name="adj3" fmla="val 16667"/>
            </a:avLst>
          </a:prstGeom>
          <a:solidFill>
            <a:srgbClr val="437f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81480" y="32767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e contacts can be found 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nimas.cas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0CD-52DA-4724-A4B6-1A84EF6E4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bership Op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is done online at Bookshar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me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by title or aut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public domain 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Memberships for non-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year with one-time $25 registration 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 Member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downloads for all qualified U.S. students through an award from OS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organizations buy book download 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Memberships fo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under the age of 18 need permission from parent/legal guard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9"/>
          <p:cNvSpPr/>
          <p:nvPr/>
        </p:nvSpPr>
        <p:spPr>
          <a:xfrm>
            <a:off x="5791320" y="1981080"/>
            <a:ext cx="2666880" cy="34290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429000"/>
              <a:gd name="textAreaBottom" fmla="*/ 3299040 h 3429000"/>
            </a:gdLst>
            <a:ahLst/>
            <a:rect l="textAreaLeft" t="textAreaTop" r="textAreaRight" b="textAreaBottom"/>
            <a:pathLst>
              <a:path w="21600" h="27772">
                <a:moveTo>
                  <a:pt x="3600" y="0"/>
                </a:moveTo>
                <a:arcTo wR="3600" hR="3600" stAng="16200000" swAng="-5400000"/>
                <a:lnTo>
                  <a:pt x="0" y="24172"/>
                </a:lnTo>
                <a:arcTo wR="3600" hR="3600" stAng="10800000" swAng="-5400000"/>
                <a:lnTo>
                  <a:pt x="18000" y="27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0"/>
          <p:cNvSpPr/>
          <p:nvPr/>
        </p:nvSpPr>
        <p:spPr>
          <a:xfrm>
            <a:off x="5791320" y="2133720"/>
            <a:ext cx="26668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ree for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ucational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lleges and Univers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ource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habilitation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tirement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roup home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Community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D73-F9D7-41D1-AA3E-5D05EDB8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Books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SY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15000" indent="-31500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ISY (Digital Accessible Information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books on a computer using visual presentation and/or synthetic speech (multimo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file more readable and easy to nav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9480" indent="195120">
              <a:spcBef>
                <a:spcPts val="45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page numbers and para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HTML, plus some extra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1720" indent="-19512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and play on MP3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ort Description: screenshot1 &#13;&#10;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1866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2185-2BE1-484C-8297-48FCA99E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Books in the BRF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40464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F (Braille Ready Form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68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otetakers or refreshable Braille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68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books to embos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68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hardcopy Braille books online through partnership with Braille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Short Description: MPj04013110000[1] &#13;&#10;"/>
          <p:cNvPicPr/>
          <p:nvPr/>
        </p:nvPicPr>
        <p:blipFill>
          <a:blip r:embed="rId1"/>
          <a:stretch/>
        </p:blipFill>
        <p:spPr>
          <a:xfrm>
            <a:off x="3048120" y="3581280"/>
            <a:ext cx="3276360" cy="218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28EF-88EE-493A-8EFF-EF3FAAA9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modal Rea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1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 ways to enjoy Bookshare.org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to them (synthesized spe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m enlarged (on a PC screen or pri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d hear the word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Braille (digital or hard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Short Description:  &#13;&#10;"/>
          <p:cNvPicPr/>
          <p:nvPr/>
        </p:nvPicPr>
        <p:blipFill>
          <a:blip r:embed="rId1"/>
          <a:stretch/>
        </p:blipFill>
        <p:spPr>
          <a:xfrm>
            <a:off x="2286000" y="3352680"/>
            <a:ext cx="4572000" cy="264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D42A-18C9-4D36-AE4A-9185ACC81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tible AT Softw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 flipV="1">
            <a:off x="990720" y="24379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762120" y="1295280"/>
            <a:ext cx="754380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T software supporting text-bas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anWare Victor Reader So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 Johnston Read:Out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rzweil 3000,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Y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-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om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876920" y="3200400"/>
            <a:ext cx="1600200" cy="1371600"/>
          </a:xfrm>
          <a:prstGeom prst="wedgeRoundRectCallout">
            <a:avLst>
              <a:gd name="adj1" fmla="val -70236"/>
              <a:gd name="adj2" fmla="val -93402"/>
              <a:gd name="adj3" fmla="val 16667"/>
            </a:avLst>
          </a:prstGeom>
          <a:solidFill>
            <a:srgbClr val="f37e2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343400" y="350532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al free version available for downloa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4A94-C116-42CC-BD07-05FCFC7F6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tible AT Hardw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51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AT hardware supporting text-bas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Ware VictorReader Stream and ClassMate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Courier and Book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lle displays like the Braille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3 players (Educator or Member can conv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5" descr="Short Description:  &#13;&#10;"/>
          <p:cNvPicPr/>
          <p:nvPr/>
        </p:nvPicPr>
        <p:blipFill>
          <a:blip r:embed="rId1"/>
          <a:stretch/>
        </p:blipFill>
        <p:spPr>
          <a:xfrm>
            <a:off x="6095880" y="3733920"/>
            <a:ext cx="1933560" cy="14554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8"/>
          <p:cNvSpPr/>
          <p:nvPr/>
        </p:nvSpPr>
        <p:spPr>
          <a:xfrm>
            <a:off x="127080" y="46080"/>
            <a:ext cx="38005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27080" y="46080"/>
            <a:ext cx="38005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127080" y="46080"/>
            <a:ext cx="23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7" descr="Short Description:  &#13;&#10;"/>
          <p:cNvPicPr/>
          <p:nvPr/>
        </p:nvPicPr>
        <p:blipFill>
          <a:blip r:embed="rId2"/>
          <a:stretch/>
        </p:blipFill>
        <p:spPr>
          <a:xfrm>
            <a:off x="6095880" y="2209680"/>
            <a:ext cx="19335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779-883D-462B-AD62-CF311075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.org at H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Bookshare.org from home on personal computers t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n home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for pl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Short Description: Boy working at computer with mother helping. &#13;&#10;"/>
          <p:cNvPicPr/>
          <p:nvPr/>
        </p:nvPicPr>
        <p:blipFill>
          <a:blip r:embed="rId1"/>
          <a:stretch/>
        </p:blipFill>
        <p:spPr>
          <a:xfrm>
            <a:off x="3352680" y="3124080"/>
            <a:ext cx="2667240" cy="2667240"/>
          </a:xfrm>
          <a:prstGeom prst="rect">
            <a:avLst/>
          </a:prstGeom>
          <a:ln w="57240">
            <a:solidFill>
              <a:srgbClr val="437fc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4CA6-0170-41FB-A8BC-89E76361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.org in Schoo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th print disabilities keep up with their class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nd listen to book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what they are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8" descr="Short Description: girl sitting in front of computer &#13;&#10;"/>
          <p:cNvPicPr/>
          <p:nvPr/>
        </p:nvPicPr>
        <p:blipFill>
          <a:blip r:embed="rId1"/>
          <a:stretch/>
        </p:blipFill>
        <p:spPr>
          <a:xfrm>
            <a:off x="2666880" y="3200400"/>
            <a:ext cx="3810240" cy="25401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061-A4E6-47EA-8D60-5506877A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’s Go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very student with a print disability has equal access to materials as students without disabilities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the same books, periodicals and referenc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t the sam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high-quality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728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free or affordable access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AB98-BC12-49E0-B624-66DD6FD8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 for Edu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7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Snyderman, Mod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the Undersecretary, U.S. Department of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Frucht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O, Benetech, and Project Director, Book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Eri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, The Center for Literacy and Disability Studies (CLDS), University of North Carolina-Chapel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1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yla Par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 Student, Georgetown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3BE2-6DD1-4469-884B-70D43E8C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03760" indent="-20376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ntact information is on www.booksha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016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and Organizational Membershi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accounts@bookshare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016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rvice: </a:t>
            </a:r>
            <a:r>
              <a:rPr b="0" lang="en-US" sz="2000" spc="-1" strike="noStrike">
                <a:solidFill>
                  <a:srgbClr val="437fc1"/>
                </a:solidFill>
                <a:latin typeface="Arial"/>
              </a:rPr>
              <a:t>support@booksha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-20160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nformation: info@bookshar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Short Description: laptop &#13;&#10;"/>
          <p:cNvPicPr/>
          <p:nvPr/>
        </p:nvPicPr>
        <p:blipFill>
          <a:blip r:embed="rId1"/>
          <a:srcRect l="10060" t="10589" r="10060" b="10589"/>
          <a:stretch/>
        </p:blipFill>
        <p:spPr>
          <a:xfrm>
            <a:off x="2971800" y="3657600"/>
            <a:ext cx="3255840" cy="22096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4" name="Picture 10" descr="Short Description: bookshare.org &#13;&#10;"/>
          <p:cNvPicPr/>
          <p:nvPr/>
        </p:nvPicPr>
        <p:blipFill>
          <a:blip r:embed="rId2"/>
          <a:stretch/>
        </p:blipFill>
        <p:spPr>
          <a:xfrm>
            <a:off x="3657600" y="4038480"/>
            <a:ext cx="1828800" cy="10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6E8D-0430-4253-83EF-9364BCCC8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Educator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accessible materials important for students with print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41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access to text for reading and listening has a negative impact on vocabulary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-aged students learn ~3,000 new words each yea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iller &amp; Gildea, 1987; Nagy &amp; Herman, 1987; Nagy, Herman, &amp; Anderson, 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3rd grade, most of new words are acquired through read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agy, 1988; Nagy &amp; Herman, 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s not a substitute for reading/listening to text because speech does not have the lexical diversity of written langu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anovich, West, Cunningham, Cipielewski, &amp; Siddiqui, 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3920" indent="-24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of text types (breadth and depth) is required to maximize vocabulary develop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ardner, 2004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59A7-56A2-41C4-BF2C-7074A5261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Educator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accessible materials important for students with print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29736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differences in exposure to print … affect both the development of cognitive processes and the declarative knowledge bases supportive of further gains in comprehension growth.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6, Stanovich, West, Cunningham, Cipielewski, and Siddiqui, 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29736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of text reading is significantly related to listening comprehension abil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drick &amp; Cunningham, 200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Educator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-512640"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implications of accessible materials for personnel prepa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47760">
              <a:spcBef>
                <a:spcPts val="34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 of the relationship between listening and reading comprehen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rlisle, 1991; Stanovich, 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7640" indent="-401400">
              <a:spcBef>
                <a:spcPts val="349"/>
              </a:spcBef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&amp; listeners must know at least 95% of the words they encounter in text in order for basic comprehension to occu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u &amp; Nation, 2000; Laufer, 1989, 1997; Liu &amp; Nation, 1985; Wixson &amp; Lipson, 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4776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s of Universal Design for Learning and related instructional planning processes (e.g., Planning for All Learners by 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47760">
              <a:spcBef>
                <a:spcPts val="499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s of  AT software and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D8D5-3EEE-477C-9CA7-2C0412B6D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and Booksh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50920" indent="-25092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yla Parker discusses the challenges faced by students with print disabilities in obtaining accessi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-140760">
              <a:spcBef>
                <a:spcPts val="451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-140760">
              <a:spcBef>
                <a:spcPts val="451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-140760">
              <a:spcBef>
                <a:spcPts val="451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d Stud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7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8025-78BF-4CB4-A423-9400AD240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35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hare.org is a project of Benetech - www.benetech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tech’s nonprofit motto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echnology Serving Hum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Short Description: Boy in sitting in classroom with his hand in the air. &#13;&#10;"/>
          <p:cNvPicPr/>
          <p:nvPr/>
        </p:nvPicPr>
        <p:blipFill>
          <a:blip r:embed="rId1"/>
          <a:stretch/>
        </p:blipFill>
        <p:spPr>
          <a:xfrm>
            <a:off x="3505320" y="1600200"/>
            <a:ext cx="2185920" cy="3276720"/>
          </a:xfrm>
          <a:prstGeom prst="rect">
            <a:avLst/>
          </a:prstGeom>
          <a:ln w="57240">
            <a:solidFill>
              <a:srgbClr val="f37e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52A3-FAAD-4B9B-BE0C-6AF98E4D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hare for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86E-2CC4-46D7-95B7-4CFB45252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 without Barri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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Materia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9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deral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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hare.org fo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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ucational Need for Accessible Materials for Students with Print Dis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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hare from a Graduate Student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 2" charset="2"/>
              <a:buChar char=""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80496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hort Description: Boy sitting on floor working on a laptop that is sitting on a pile of books. &#13;&#10;"/>
          <p:cNvPicPr/>
          <p:nvPr/>
        </p:nvPicPr>
        <p:blipFill>
          <a:blip r:embed="rId1"/>
          <a:stretch/>
        </p:blipFill>
        <p:spPr>
          <a:xfrm>
            <a:off x="6248520" y="2286000"/>
            <a:ext cx="1827000" cy="2743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5274-86D0-4558-943D-3379FE3C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Bookshare.or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6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hare.org is an online library of accessible media for readers with print dis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26,000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,000 schools and o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9,000 titles in the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7640">
              <a:spcBef>
                <a:spcPts val="275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dreds of new books added every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6324480" y="2590920"/>
            <a:ext cx="1981440" cy="259056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2590560"/>
              <a:gd name="textAreaBottom" fmla="*/ 2494080 h 2590560"/>
            </a:gdLst>
            <a:ahLst/>
            <a:rect l="textAreaLeft" t="textAreaTop" r="textAreaRight" b="textAreaBottom"/>
            <a:pathLst>
              <a:path w="21600" h="28239">
                <a:moveTo>
                  <a:pt x="3600" y="0"/>
                </a:moveTo>
                <a:arcTo wR="3600" hR="3600" stAng="16200000" swAng="-5400000"/>
                <a:lnTo>
                  <a:pt x="0" y="24639"/>
                </a:lnTo>
                <a:arcTo wR="3600" hR="3600" stAng="10800000" swAng="-5400000"/>
                <a:lnTo>
                  <a:pt x="18000" y="28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943600" y="2743200"/>
            <a:ext cx="2286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kshare.org believes that people with print disabilities should have the same ease of access to books and periodicals that people without disabilities enjo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55B-2136-46DE-819F-FBF1D8576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kshare.org for Edu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85800" y="1447920"/>
            <a:ext cx="7848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ctober 2007, Bookshare.org was awarded funding from the federal Office of Special Education Programs (OSEP)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Bookshare.org content and services </a:t>
            </a:r>
            <a:r>
              <a:rPr b="1" lang="en-US" sz="2000" spc="-1" strike="noStrike">
                <a:solidFill>
                  <a:srgbClr val="f37e21"/>
                </a:solidFill>
                <a:latin typeface="Arial"/>
                <a:ea typeface="ＭＳ Ｐゴシック"/>
              </a:rPr>
              <a:t>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.S. qualified print disabled students of any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d the Bookshare.org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educational materials requested by teac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extbooks from the NIMAC and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 2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n Once, Share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Short Description: screenshot of BKS Home Page (http://www.bookshare.org) &#13;&#10;"/>
          <p:cNvPicPr/>
          <p:nvPr/>
        </p:nvPicPr>
        <p:blipFill>
          <a:blip r:embed="rId1"/>
          <a:stretch/>
        </p:blipFill>
        <p:spPr>
          <a:xfrm>
            <a:off x="2971800" y="2286000"/>
            <a:ext cx="2971800" cy="1414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E587-EE2B-48E2-9655-9DFB1264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ts to Me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ccess to materials for students with print disa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for qualified students through an award from O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is available onli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/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membership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4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assistive technology software 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5181480" y="1905120"/>
            <a:ext cx="3200400" cy="3200400"/>
            <a:chOff x="5181480" y="1905120"/>
            <a:chExt cx="3200400" cy="3200400"/>
          </a:xfrm>
        </p:grpSpPr>
        <p:pic>
          <p:nvPicPr>
            <p:cNvPr id="115" name="Picture 13" descr="MPj04265620000[1]"/>
            <p:cNvPicPr/>
            <p:nvPr/>
          </p:nvPicPr>
          <p:blipFill>
            <a:blip r:embed="rId1"/>
            <a:stretch/>
          </p:blipFill>
          <p:spPr>
            <a:xfrm>
              <a:off x="5181480" y="1905120"/>
              <a:ext cx="3200400" cy="3200400"/>
            </a:xfrm>
            <a:prstGeom prst="rect">
              <a:avLst/>
            </a:prstGeom>
            <a:ln w="57240">
              <a:solidFill>
                <a:srgbClr val="f37e21"/>
              </a:solidFill>
              <a:miter/>
            </a:ln>
          </p:spPr>
        </p:pic>
        <p:sp>
          <p:nvSpPr>
            <p:cNvPr id="116" name="Rectangle 15"/>
            <p:cNvSpPr/>
            <p:nvPr/>
          </p:nvSpPr>
          <p:spPr>
            <a:xfrm>
              <a:off x="5181480" y="1905120"/>
              <a:ext cx="3200400" cy="3200400"/>
            </a:xfrm>
            <a:prstGeom prst="rect">
              <a:avLst/>
            </a:prstGeom>
            <a:noFill/>
            <a:ln w="38160">
              <a:solidFill>
                <a:srgbClr val="f37e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8B2-996A-4F2E-9A84-C8AC7D7C2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hare.org Libr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xtboo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owing number available from NIMAC, publishers and schoo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acher Recommended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cial Colle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w York Times Best Sell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wbery Winn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decott Winn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oung Reader’s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anish Boo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ublisher Partnershi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pter books from Scholast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rperCollins bestsell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ver 600 technical books from O’Reilly Me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iodical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ailable through our partnership with NFB News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0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0 national &amp; regional newspapers and magaz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43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5334120" y="1600200"/>
            <a:ext cx="2819160" cy="411480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114800"/>
              <a:gd name="textAreaBottom" fmla="*/ 3977280 h 4114800"/>
            </a:gdLst>
            <a:ahLst/>
            <a:rect l="textAreaLeft" t="textAreaTop" r="textAreaRight" b="textAreaBottom"/>
            <a:pathLst>
              <a:path w="21600" h="31526">
                <a:moveTo>
                  <a:pt x="3600" y="0"/>
                </a:moveTo>
                <a:arcTo wR="3600" hR="3600" stAng="16200000" swAng="-5400000"/>
                <a:lnTo>
                  <a:pt x="0" y="27926"/>
                </a:lnTo>
                <a:arcTo wR="3600" hR="3600" stAng="10800000" swAng="-5400000"/>
                <a:lnTo>
                  <a:pt x="18000" y="315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5410080" y="1752480"/>
            <a:ext cx="266724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MA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Instru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s Access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dividuals with Disabilities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ment  Act (IDEA) of 2004 requires states to address the critical difficulty in obtaining accessible textbooks for students with disabil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at?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der the law, NIMAC provides a national repository to collect and store these files, in an accessible format called NIMAS (National Instructional Materials Accessibility Standard) and makes them available to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D801-3333-4FE3-98C3-F3DA6F70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gible Stud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371600"/>
          <a:ext cx="7619760" cy="4703760"/>
        </p:xfrm>
        <a:graphic>
          <a:graphicData uri="http://schemas.openxmlformats.org/drawingml/2006/table">
            <a:tbl>
              <a:tblPr/>
              <a:tblGrid>
                <a:gridCol w="2557440"/>
                <a:gridCol w="2531880"/>
                <a:gridCol w="25304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i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ed/Not Qualifi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 of Certifying Profession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ual Impairment (VI), such as blind or low vi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fi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family doctor, ophthalmologist, optometrist, teacher of the visually impaired, Special Education teacher, certification from the National Library Serv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 Disability (PD) which affects one’s ability to read print, such as inability to hold a book or turn p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fi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family doctor or other medical professional, physical therapist, resource specialist, Special Education teac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r Reading Dis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with a severe enough disability, and a professional certifying that the disability has a physical basi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neurologist, psychiatrist, learning disability specialist,  Special Education teacher, school psychologist, or clinical psychologist with a background in learning dis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ism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tional Disabilit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H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L and E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qualified, unless accompanied by a visual or physical disability, or a qualified reading disability that has a physical basi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ples ab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37fc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" name="AutoShape 255"/>
          <p:cNvSpPr/>
          <p:nvPr/>
        </p:nvSpPr>
        <p:spPr>
          <a:xfrm>
            <a:off x="6629400" y="5486400"/>
            <a:ext cx="1447920" cy="838080"/>
          </a:xfrm>
          <a:prstGeom prst="wedgeRoundRectCallout">
            <a:avLst>
              <a:gd name="adj1" fmla="val 33550"/>
              <a:gd name="adj2" fmla="val -12121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ecord of disability is kept at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D75-C3A8-48AD-8F1F-5A133D54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to Boo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447920"/>
          <a:ext cx="7924680" cy="2444760"/>
        </p:xfrm>
        <a:graphic>
          <a:graphicData uri="http://schemas.openxmlformats.org/drawingml/2006/table">
            <a:tbl>
              <a:tblPr/>
              <a:tblGrid>
                <a:gridCol w="2923920"/>
                <a:gridCol w="2616480"/>
                <a:gridCol w="2384280"/>
              </a:tblGrid>
              <a:tr h="54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hare.org Downlo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Can Downlo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Qualific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domain boo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 with U.S. copyr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 with international permi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s and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fee Qual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MAC-sourced boo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ors (K-12 U.S. public schools and agenc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fee + I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37fc1">
                        <a:alpha val="4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9" name="AutoShape 5"/>
          <p:cNvSpPr/>
          <p:nvPr/>
        </p:nvSpPr>
        <p:spPr>
          <a:xfrm>
            <a:off x="5257800" y="4191120"/>
            <a:ext cx="2666880" cy="1828800"/>
          </a:xfrm>
          <a:prstGeom prst="wedgeRoundRectCallout">
            <a:avLst>
              <a:gd name="adj1" fmla="val -173962"/>
              <a:gd name="adj2" fmla="val -11993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okshare.org is authorized to produce digital books in accessible formats through an exemption in the U.S. copyright law called the Chafee Amend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53:55Z</dcterms:created>
  <dc:creator>Susie Mckinnon</dc:creator>
  <dc:description/>
  <dc:language>en-US</dc:language>
  <cp:lastModifiedBy>American Institutes for Research</cp:lastModifiedBy>
  <dcterms:modified xsi:type="dcterms:W3CDTF">2008-09-10T21:10:28Z</dcterms:modified>
  <cp:revision>573</cp:revision>
  <dc:subject/>
  <dc:title>PowerPoint Presentation</dc:title>
</cp:coreProperties>
</file>